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73152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3939D6F-B715-4485-8439-4A6060D80E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202DF04-3235-4A49-8DCE-CE89A403E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5DBB40D-05BF-4364-A24A-E0CAEAE604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Header Placeholder 4"/>
          <p:cNvSpPr/>
          <p:nvPr/>
        </p:nvSpPr>
        <p:spPr>
          <a:xfrm>
            <a:off x="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FF07-7BE2-4576-AB13-9C3A7201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2878-C2E2-42A3-887A-383F094D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51B0-8E7C-4492-9B83-1D97B654D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6ABB-C490-4904-B562-364921560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098F-376E-4337-AB0F-0A2CD3FF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1332-0345-42C2-A670-7CD768F3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7902-3A98-4F94-B8F4-C2210B6D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576B-F66A-4E17-8921-FB8EB57E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293760"/>
            <a:ext cx="86421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14A7-5F7E-43CA-AA5E-628E05F9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7CFB-BC09-491E-B5BF-D86747C1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CF6E-3B61-4AAD-B172-CA386381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4F25-AE1D-4811-BE1A-F40D160A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84080" indent="-3013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20816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1690560" indent="-2412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4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5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6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1261834-1D2D-400A-8CB8-151B426B9108}" type="datetime">
              <a:rPr b="0" lang="en-US" sz="13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6780240"/>
            <a:ext cx="304200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079EF44-C116-47E0-9DD1-D0FB911180D8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4"/>
          <p:cNvSpPr/>
          <p:nvPr/>
        </p:nvSpPr>
        <p:spPr>
          <a:xfrm>
            <a:off x="0" y="2666880"/>
            <a:ext cx="9601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5"/>
          <p:cNvSpPr/>
          <p:nvPr/>
        </p:nvSpPr>
        <p:spPr>
          <a:xfrm>
            <a:off x="0" y="4952880"/>
            <a:ext cx="9601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7"/>
          <p:cNvSpPr/>
          <p:nvPr/>
        </p:nvSpPr>
        <p:spPr>
          <a:xfrm flipH="1">
            <a:off x="3200400" y="685800"/>
            <a:ext cx="7920" cy="66294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9"/>
          <p:cNvSpPr/>
          <p:nvPr/>
        </p:nvSpPr>
        <p:spPr>
          <a:xfrm>
            <a:off x="6553080" y="685800"/>
            <a:ext cx="6480" cy="66308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152280" y="685800"/>
            <a:ext cx="2971800" cy="42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urrent Skill: Phonics (Vowel Pairs ai and ay) Categorize spelling words or words from the text that have the above vowel pai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(ex. cr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ay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n, pl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ai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n) Under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ine vow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airs.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6629400" y="2746440"/>
            <a:ext cx="29718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honics: Suffixes –ly and –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Use the words below to make new words by adding –ly or –ful.  Then use each new word in a sentence.  Underline your new word. (ex. play, playful;The puppy was very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playful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(loud, sad, hope, grace, pain, prou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Initials________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3200400" y="4952880"/>
            <a:ext cx="335268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urrent skill:  Plural Nou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ome nouns are spelled differently when they name more than 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Write the plural for the following nouns.  Then write a sentence for each one.  (ex. man, men; There were  three men in the store.)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 wife, child, woman, person, knife, life)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itials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6629400" y="762120"/>
            <a:ext cx="272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7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elling (.) sentence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bout a story you are reading. Each sentence must use a spelling word. Underline the spelling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152280" y="2746440"/>
            <a:ext cx="2640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7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question (?) sentence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 be answered by a story’s main character. Each sentence must use a spelling word. Underline the spelling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3352680" y="1219320"/>
            <a:ext cx="256068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each word 3 times in your best handwri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0" y="5257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nbow Spell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udents may type (preferred) or write each word with vowels and consonants in a different font style or col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3321000" y="2870280"/>
            <a:ext cx="29592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e a friendly letter to a friend.  Choose to whom you will write your letter.  Decide what  you will write about ( school, winter break, pet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clude details in your letter.  Don’t forget to include a date, greeting, closing, and your name as the wri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6781680" y="5029200"/>
            <a:ext cx="2560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5 sentences that use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quotation (“ ”) mark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 show someone speaking. Write a conversation by the characters in your rea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2"/>
          <p:cNvSpPr/>
          <p:nvPr/>
        </p:nvSpPr>
        <p:spPr>
          <a:xfrm>
            <a:off x="0" y="0"/>
            <a:ext cx="9372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pelling Homework for Big Bushy Mustache.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udents must complete Tic-Tac-Toe (three in a row – and they must use the center square). All work should be completed in the student’s homework journal. The journal, with completed work,  and the board, with parent initials are due: __________________________________________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3"/>
          <p:cNvSpPr/>
          <p:nvPr/>
        </p:nvSpPr>
        <p:spPr>
          <a:xfrm>
            <a:off x="144792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itials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6"/>
          <p:cNvSpPr/>
          <p:nvPr/>
        </p:nvSpPr>
        <p:spPr>
          <a:xfrm>
            <a:off x="4800600" y="2209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800100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8"/>
          <p:cNvSpPr/>
          <p:nvPr/>
        </p:nvSpPr>
        <p:spPr>
          <a:xfrm>
            <a:off x="137160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9"/>
          <p:cNvSpPr/>
          <p:nvPr/>
        </p:nvSpPr>
        <p:spPr>
          <a:xfrm>
            <a:off x="487692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1"/>
          <p:cNvSpPr/>
          <p:nvPr/>
        </p:nvSpPr>
        <p:spPr>
          <a:xfrm>
            <a:off x="1447920" y="691524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3"/>
          <p:cNvSpPr/>
          <p:nvPr/>
        </p:nvSpPr>
        <p:spPr>
          <a:xfrm>
            <a:off x="7848720" y="670572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9:59:54Z</dcterms:created>
  <dc:creator> </dc:creator>
  <dc:description/>
  <dc:language>en-US</dc:language>
  <cp:lastModifiedBy>Mits Mits</cp:lastModifiedBy>
  <cp:lastPrinted>2010-01-04T20:00:09Z</cp:lastPrinted>
  <dcterms:modified xsi:type="dcterms:W3CDTF">2010-01-04T21:05:22Z</dcterms:modified>
  <cp:revision>29</cp:revision>
  <dc:subject/>
  <dc:title>Slide 1</dc:title>
</cp:coreProperties>
</file>